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rgie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rgies are exaggerated and sometimes harmful reactions to external substances, called allergens. Allergy may result from exposure to such common allergens as plant pollens from grasses, trees, or ragweed; animal danders, which are tiny scales shed from the skin and hair of cats and other furred animals; insects, such as house dust mites, bees, and wasps; and drugs, such as penicillin. The most common food allergies are caused by eggs, milk, peanuts, shellfish, wheat, and chocolate. Researchers estimate that at least 24 million people in the United States suffer from allergies – about 19 percent of the population. In an allergic reaction, the immune system mistakenly interprets a harmless substance as harmful on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erg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n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unoglobul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t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tam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phylactic sh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v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m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zem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ll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allergy result fr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in an allergic re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mast c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oes an allergic reaction occu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symptoms of hay fe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aphylactic sho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food allergy and food intoler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there a genetic predisposition to allerg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technique is used for testing and diagnosing specific allergen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gest synonyms for each of the following word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fu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ake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gh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m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i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verbs which are related to the following nou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mm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re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rite the following sentences in the Passive Voic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llergist must perform all necessary allergy skin te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ientists included the additional chemical in order to have better resul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allergic reaction, the immune system mistakenly interprets a harmless substance as a harmful 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often confuse food allergy, which is an immune response, with food intoler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substances will create various allergy sympto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patients are taking medicines to control different allergic rea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ers have identified a definite genetic predisposition to allergie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allerge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od allerg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ways to defeat aller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21:08:56Z</dcterms:modified>
  <cp:revision>34</cp:revision>
  <dc:subject/>
  <dc:title>Slide 1</dc:title>
</cp:coreProperties>
</file>